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603-1773-4C4A-A9DE-E801F89A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BCE-BD81-4A94-8D55-E12758D3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68A-DD3A-4845-BC2B-DD430282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62E-D58A-4C02-AB83-9D1C5618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228-54A6-4C2A-81CB-0E20A4EC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99C-9AA0-4D61-9A33-F69D0305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15A-B180-427D-9AB8-E62B9878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0AC-084A-456F-9324-CA775B3B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37D-DC6C-4F3B-8F79-FB5DBDBA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A40-0186-456C-84CD-B289EDA2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EDB-FCFB-44A9-8358-B9B184F7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B49-8CF4-48C8-8D83-4EA5AF8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36A3-EB96-445A-94CF-90C99A834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rew and Garr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lp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ances national sports are soccer and rug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oules is a kind of bowling French people play in town square all around Fr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ffel T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ffel Tower is in the capital city of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980ft high and is one of the best-known sight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vers and 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ne of the most popular river in France is the Seine. The Seine flows right Paris. It is a very shallow river but very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Pyrenees mountain range is the border between Spain and F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ance speak the language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51% of France are Catholics, 31% are atheists. 4% Muslims And 3% Je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apital of France is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ance’s money are Eu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ench money is counted in franc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is famous for its viney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es are used to make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e is put in huge wooden barrels before it is s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eese is a big part of Frances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oissants are ate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orange and lemon festival in Menton is to celebrate the harv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e To Franc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chael March, pgs. 7,17,18,28,29,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enry Pluckrose, pgs. 7,8,9,14,18,19,23,24,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d Out About Fra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ncan Crosbie, pgs.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yre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23:53Z</dcterms:created>
  <dc:creator>thomasramsey</dc:creator>
  <dc:description/>
  <dc:language>en-US</dc:language>
  <cp:lastModifiedBy>thomasramsey</cp:lastModifiedBy>
  <dcterms:modified xsi:type="dcterms:W3CDTF">2009-02-11T19:37:33Z</dcterms:modified>
  <cp:revision>7</cp:revision>
  <dc:subject/>
  <dc:title>France</dc:title>
</cp:coreProperties>
</file>